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4D4C8-0EC5-4F2D-9128-FE64CFB8C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6F9E-1878-468B-9BFE-4FC503033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105AE-5A76-4555-820F-CDCBEB1FE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60F9B-6A26-4382-9378-E15A3D202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A7D5-517D-459C-9DD8-96123B8C6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7C6F-481A-41E8-A3D0-BFA6C2B6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FF62-EB7F-4732-B0DC-6D9C8583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537C-4CF2-4891-A07C-C17B754D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17BA8-ADAF-473C-8508-067D5DAE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6246A-9456-4578-84F3-B8BDCAD3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11BC-CF3B-4F93-9595-2556F566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AC09-E64C-4B1E-98F9-D11253514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B3A6-7126-4BF5-A604-C469F2F5A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1600200"/>
            <a:ext cx="3530520" cy="4495680"/>
          </a:xfrm>
          <a:prstGeom prst="rect">
            <a:avLst/>
          </a:prstGeom>
          <a:ln w="3240">
            <a:solidFill>
              <a:srgbClr val="000000"/>
            </a:solidFill>
            <a:miter/>
          </a:ln>
        </p:spPr>
      </p:pic>
      <p:sp>
        <p:nvSpPr>
          <p:cNvPr id="43"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reating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titut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931A0F52-5E94-49B5-A722-C4BAB529BB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28600" y="1371600"/>
          <a:ext cx="8763120" cy="1828800"/>
        </p:xfrm>
        <a:graphic>
          <a:graphicData uri="http://schemas.openxmlformats.org/drawingml/2006/table">
            <a:tbl>
              <a:tblPr/>
              <a:tblGrid>
                <a:gridCol w="8763120"/>
              </a:tblGrid>
              <a:tr h="18288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ndment Proces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bate in Cong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3" name=""/>
          <p:cNvGraphicFramePr/>
          <p:nvPr/>
        </p:nvGraphicFramePr>
        <p:xfrm>
          <a:off x="228600" y="3200400"/>
          <a:ext cx="8763120" cy="3048120"/>
        </p:xfrm>
        <a:graphic>
          <a:graphicData uri="http://schemas.openxmlformats.org/drawingml/2006/table">
            <a:tbl>
              <a:tblPr/>
              <a:tblGrid>
                <a:gridCol w="5410080"/>
                <a:gridCol w="3353040"/>
              </a:tblGrid>
              <a:tr h="304812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fter some debate, the Bill of Rights was added to the Constitution to protect Americans’ individual rights and freedom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of Righ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Proc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 name=""/>
          <p:cNvSpPr/>
          <p:nvPr/>
        </p:nvSpPr>
        <p:spPr>
          <a:xfrm>
            <a:off x="2133720" y="152280"/>
            <a:ext cx="502920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dding 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26B8A597-AAD3-443D-856D-634BAD3FA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mendment Process</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219320"/>
            <a:ext cx="8229600" cy="4983120"/>
          </a:xfrm>
          <a:prstGeom prst="rect">
            <a:avLst/>
          </a:prstGeom>
          <a:ln w="0">
            <a:noFill/>
          </a:ln>
        </p:spPr>
      </p:pic>
      <p:sp>
        <p:nvSpPr>
          <p:cNvPr id="3" name="PlaceHolder 2"/>
          <p:cNvSpPr>
            <a:spLocks noGrp="1"/>
          </p:cNvSpPr>
          <p:nvPr>
            <p:ph type="ftr" idx="2"/>
          </p:nvPr>
        </p:nvSpPr>
        <p:spPr/>
        <p:txBody>
          <a:bodyPr/>
          <a:p>
            <a:r>
              <a:t>Civics: Government and Economics in Action</a:t>
            </a:r>
          </a:p>
        </p:txBody>
      </p:sp>
      <p:sp>
        <p:nvSpPr>
          <p:cNvPr id="4" name="PlaceHolder 3"/>
          <p:cNvSpPr>
            <a:spLocks noGrp="1"/>
          </p:cNvSpPr>
          <p:nvPr>
            <p:ph type="sldNum" idx="3"/>
          </p:nvPr>
        </p:nvSpPr>
        <p:spPr/>
        <p:txBody>
          <a:bodyPr/>
          <a:p>
            <a:fld id="{50718074-609B-472C-B609-D4D1FA9E33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Debate in Congress</a:t>
            </a:r>
            <a:endParaRPr b="0" lang="en-US" sz="4000" spc="-1" strike="noStrike">
              <a:solidFill>
                <a:srgbClr val="000000"/>
              </a:solidFill>
              <a:latin typeface="Arial"/>
            </a:endParaRPr>
          </a:p>
        </p:txBody>
      </p:sp>
      <p:sp>
        <p:nvSpPr>
          <p:cNvPr id="68"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June 1789</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adison declared that Americans believed that the Constitution did not adequately protect their righ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August 1789</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begins preparing the Bill of Righ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ces include the Magna Carta, English Bill of Rights, Colonial Charters, and state constitu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cember 15</a:t>
            </a:r>
            <a:r>
              <a:rPr b="0" lang="en-US" sz="3200" spc="-1" strike="noStrike" baseline="30000">
                <a:solidFill>
                  <a:srgbClr val="000000"/>
                </a:solidFill>
                <a:latin typeface="Arial"/>
              </a:rPr>
              <a:t>th</a:t>
            </a:r>
            <a:r>
              <a:rPr b="0" lang="en-US" sz="3200" spc="-1" strike="noStrike">
                <a:solidFill>
                  <a:srgbClr val="000000"/>
                </a:solidFill>
                <a:latin typeface="Arial"/>
              </a:rPr>
              <a:t>, 179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 Amendments (Bill of Rights) are ratified and become part of the Constit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CE48559-15CE-40B0-95AD-C72289E33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228600" y="3809880"/>
          <a:ext cx="8763120" cy="2438640"/>
        </p:xfrm>
        <a:graphic>
          <a:graphicData uri="http://schemas.openxmlformats.org/drawingml/2006/table">
            <a:tbl>
              <a:tblPr/>
              <a:tblGrid>
                <a:gridCol w="5410080"/>
                <a:gridCol w="3353040"/>
              </a:tblGrid>
              <a:tr h="24386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Bill of Rights was added to the Constitution to guarantee the basic rights of citizens. These rights include protections of individual freedoms, protections against the government’s abuse of power, and the protections of the accus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of Church and St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nent Doma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Process of La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Jeopard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0" name=""/>
          <p:cNvSpPr/>
          <p:nvPr/>
        </p:nvSpPr>
        <p:spPr>
          <a:xfrm>
            <a:off x="1523880" y="228600"/>
            <a:ext cx="6096240" cy="91440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rotections in the Bill of Rights”</a:t>
            </a:r>
            <a:endParaRPr b="0" lang="en-US" sz="2800" spc="-1" strike="noStrike">
              <a:solidFill>
                <a:srgbClr val="000000"/>
              </a:solidFill>
              <a:latin typeface="Arial"/>
            </a:endParaRPr>
          </a:p>
        </p:txBody>
      </p:sp>
      <p:graphicFrame>
        <p:nvGraphicFramePr>
          <p:cNvPr id="71" name=""/>
          <p:cNvGraphicFramePr/>
          <p:nvPr/>
        </p:nvGraphicFramePr>
        <p:xfrm>
          <a:off x="228600" y="1371600"/>
          <a:ext cx="8763120" cy="2438280"/>
        </p:xfrm>
        <a:graphic>
          <a:graphicData uri="http://schemas.openxmlformats.org/drawingml/2006/table">
            <a:tbl>
              <a:tblPr/>
              <a:tblGrid>
                <a:gridCol w="4457880"/>
                <a:gridCol w="4305240"/>
              </a:tblGrid>
              <a:tr h="243828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s of Individual Freedom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s Against Abuse of Pow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Protections of the Accused</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Protections of Other Rights</a:t>
                      </a:r>
                      <a:endParaRPr b="0" lang="en-US" sz="24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A9AA3A3B-BE7B-4369-A14C-AEDEDE61B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Individual Freedoms</a:t>
            </a:r>
            <a:endParaRPr b="0" lang="en-US" sz="4000" spc="-1" strike="noStrike">
              <a:solidFill>
                <a:srgbClr val="000000"/>
              </a:solidFill>
              <a:latin typeface="Arial"/>
            </a:endParaRPr>
          </a:p>
        </p:txBody>
      </p:sp>
      <p:sp>
        <p:nvSpPr>
          <p:cNvPr id="73"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Relig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 of Church and State:</a:t>
            </a:r>
            <a:r>
              <a:rPr b="0" lang="en-US" sz="2400" spc="-1" strike="noStrike">
                <a:solidFill>
                  <a:srgbClr val="000000"/>
                </a:solidFill>
                <a:latin typeface="Times New Roman"/>
              </a:rPr>
              <a:t> </a:t>
            </a:r>
            <a:r>
              <a:rPr b="0" i="1" lang="en-US" sz="2400" spc="-1" strike="noStrike">
                <a:solidFill>
                  <a:srgbClr val="000000"/>
                </a:solidFill>
                <a:latin typeface="Times New Roman"/>
              </a:rPr>
              <a:t>Government may not favor any religion or establish an official religion</a:t>
            </a:r>
            <a:r>
              <a:rPr b="0" lang="en-US" sz="2400" spc="-1" strike="noStrike">
                <a:solidFill>
                  <a:srgbClr val="000000"/>
                </a:solidFill>
                <a:latin typeface="Times New Roman"/>
              </a:rPr>
              <a:t>.</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Speec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the Pr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Assembly</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o meet together or gather</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Petit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o ask government to make or change a law or solve a problem</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F3BF30D-6852-4A0C-9307-CD1CF51DD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Against Abuse of Power</a:t>
            </a:r>
            <a:endParaRPr b="0" lang="en-US" sz="4000" spc="-1" strike="noStrike">
              <a:solidFill>
                <a:srgbClr val="000000"/>
              </a:solidFill>
              <a:latin typeface="Arial"/>
            </a:endParaRPr>
          </a:p>
        </p:txBody>
      </p:sp>
      <p:sp>
        <p:nvSpPr>
          <p:cNvPr id="75" name="PlaceHolder 2"/>
          <p:cNvSpPr>
            <a:spLocks noGrp="1"/>
          </p:cNvSpPr>
          <p:nvPr>
            <p:ph/>
          </p:nvPr>
        </p:nvSpPr>
        <p:spPr>
          <a:xfrm>
            <a:off x="380880" y="1295280"/>
            <a:ext cx="838224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Bear Arms (Gun Ownershi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d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from the housing of Soldi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h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from unreasonable search and seizure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h Amendment </a:t>
            </a:r>
            <a:r>
              <a:rPr b="0" lang="en-US" sz="2000" spc="-1" strike="noStrike">
                <a:solidFill>
                  <a:srgbClr val="000000"/>
                </a:solidFill>
                <a:latin typeface="Arial"/>
              </a:rPr>
              <a:t>(part I)</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inent Domain:</a:t>
            </a:r>
            <a:r>
              <a:rPr b="0" lang="en-US" sz="2800" spc="-1" strike="noStrike">
                <a:solidFill>
                  <a:srgbClr val="000000"/>
                </a:solidFill>
                <a:latin typeface="Times New Roman"/>
              </a:rPr>
              <a:t> the right for government to take private property; however owner has the right to a fair price for his or her proper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9C33F76-105B-4F0D-B130-44CC84D8D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the Accused</a:t>
            </a:r>
            <a:endParaRPr b="0" lang="en-US" sz="4000" spc="-1" strike="noStrike">
              <a:solidFill>
                <a:srgbClr val="000000"/>
              </a:solidFill>
              <a:latin typeface="Arial"/>
            </a:endParaRPr>
          </a:p>
        </p:txBody>
      </p:sp>
      <p:sp>
        <p:nvSpPr>
          <p:cNvPr id="77" name="PlaceHolder 2"/>
          <p:cNvSpPr>
            <a:spLocks noGrp="1"/>
          </p:cNvSpPr>
          <p:nvPr>
            <p:ph/>
          </p:nvPr>
        </p:nvSpPr>
        <p:spPr>
          <a:xfrm>
            <a:off x="456840" y="1219320"/>
            <a:ext cx="838188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h Amendment </a:t>
            </a:r>
            <a:r>
              <a:rPr b="0" lang="en-US" sz="2000" spc="-1" strike="noStrike">
                <a:solidFill>
                  <a:srgbClr val="000000"/>
                </a:solidFill>
                <a:latin typeface="Arial"/>
              </a:rPr>
              <a:t>(part II)</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a:t>
            </a:r>
            <a:r>
              <a:rPr b="1" lang="en-US" sz="2800" spc="-1" strike="noStrike">
                <a:solidFill>
                  <a:srgbClr val="000000"/>
                </a:solidFill>
                <a:latin typeface="Times New Roman"/>
              </a:rPr>
              <a:t>Due Process of Law;</a:t>
            </a:r>
            <a:r>
              <a:rPr b="0" lang="en-US" sz="2800" spc="-1" strike="noStrike">
                <a:solidFill>
                  <a:srgbClr val="000000"/>
                </a:solidFill>
                <a:latin typeface="Times New Roman"/>
              </a:rPr>
              <a:t> A process by which the government must treat accused persons fairly according to the rules established by law.</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protected from</a:t>
            </a:r>
            <a:r>
              <a:rPr b="1" lang="en-US" sz="2800" spc="-1" strike="noStrike">
                <a:solidFill>
                  <a:srgbClr val="000000"/>
                </a:solidFill>
                <a:latin typeface="Times New Roman"/>
              </a:rPr>
              <a:t> Double Jeopardy;</a:t>
            </a:r>
            <a:r>
              <a:rPr b="0" lang="en-US" sz="2800" spc="-1" strike="noStrike">
                <a:solidFill>
                  <a:srgbClr val="000000"/>
                </a:solidFill>
                <a:latin typeface="Times New Roman"/>
              </a:rPr>
              <a:t> being placed on trial twice for the same crim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x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the right to a trial by jury in criminal ca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426B97EC-7452-4DE4-A1D6-FD32D95BBE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the Accused (con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ve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the right to a trial by jury in </a:t>
            </a:r>
            <a:r>
              <a:rPr b="0" lang="en-US" sz="2800" spc="-1" strike="noStrike" u="sng">
                <a:solidFill>
                  <a:srgbClr val="000000"/>
                </a:solidFill>
                <a:uFillTx/>
                <a:latin typeface="Times New Roman"/>
              </a:rPr>
              <a:t>most</a:t>
            </a:r>
            <a:r>
              <a:rPr b="0" lang="en-US" sz="2800" spc="-1" strike="noStrike">
                <a:solidFill>
                  <a:srgbClr val="000000"/>
                </a:solidFill>
                <a:latin typeface="Times New Roman"/>
              </a:rPr>
              <a:t> civil c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s excessive bail, fines, and punish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ruel and unusual” punish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3B5F350E-2BD7-4729-8846-F450D3AB5F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Other Right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s that rights not mentioned in the Constitution belong to the peop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 Rights are not limited to the one mentioned in the Constitu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s that powers not given to the national government belong to the states or to the peo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F378821A-62D7-4E3F-8CF3-F86DA709F5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228600" y="1371600"/>
          <a:ext cx="8763120" cy="2768760"/>
        </p:xfrm>
        <a:graphic>
          <a:graphicData uri="http://schemas.openxmlformats.org/drawingml/2006/table">
            <a:tbl>
              <a:tblPr/>
              <a:tblGrid>
                <a:gridCol w="8763120"/>
              </a:tblGrid>
              <a:tr h="28062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the Court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and Free Speech</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kokie Case: Freedom for Nazi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inuing Challeng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3" name=""/>
          <p:cNvGraphicFramePr/>
          <p:nvPr/>
        </p:nvGraphicFramePr>
        <p:xfrm>
          <a:off x="228600" y="4114800"/>
          <a:ext cx="8763120" cy="1981080"/>
        </p:xfrm>
        <a:graphic>
          <a:graphicData uri="http://schemas.openxmlformats.org/drawingml/2006/table">
            <a:tbl>
              <a:tblPr/>
              <a:tblGrid>
                <a:gridCol w="5410080"/>
                <a:gridCol w="3353040"/>
              </a:tblGrid>
              <a:tr h="198108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ny different situation call into question the meaning of our rights under the Constitution. It is role of the courts to interpret the Bill of Rights and to apply them to each c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om of the Pr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om of Speec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i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
          <p:cNvSpPr/>
          <p:nvPr/>
        </p:nvSpPr>
        <p:spPr>
          <a:xfrm>
            <a:off x="1676520" y="228600"/>
            <a:ext cx="563868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erpreting 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DDEE5464-93D4-4BC1-9A56-45C4290382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28600" y="1371600"/>
          <a:ext cx="8763120" cy="2220840"/>
        </p:xfrm>
        <a:graphic>
          <a:graphicData uri="http://schemas.openxmlformats.org/drawingml/2006/table">
            <a:tbl>
              <a:tblPr/>
              <a:tblGrid>
                <a:gridCol w="8763120"/>
              </a:tblGrid>
              <a:tr h="22500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oals of Our Government</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rticle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Government</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5" name=""/>
          <p:cNvGraphicFramePr/>
          <p:nvPr/>
        </p:nvGraphicFramePr>
        <p:xfrm>
          <a:off x="228600" y="3581280"/>
          <a:ext cx="8763120" cy="2667240"/>
        </p:xfrm>
        <a:graphic>
          <a:graphicData uri="http://schemas.openxmlformats.org/drawingml/2006/table">
            <a:tbl>
              <a:tblPr/>
              <a:tblGrid>
                <a:gridCol w="5410080"/>
                <a:gridCol w="3353040"/>
              </a:tblGrid>
              <a:tr h="26672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Constitution establishes a federal government, protects the rights of citizens, and provides general rules that government must foll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t Pow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d Pow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and Balan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a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 name=""/>
          <p:cNvSpPr/>
          <p:nvPr/>
        </p:nvSpPr>
        <p:spPr>
          <a:xfrm>
            <a:off x="2133720" y="304920"/>
            <a:ext cx="579096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Supreme Law of the Lan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EFBBF8D7-D28C-4799-839A-0EFFE3CAB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Role of the Courts</a:t>
            </a:r>
            <a:endParaRPr b="0" lang="en-US" sz="4000" spc="-1" strike="noStrike">
              <a:solidFill>
                <a:srgbClr val="000000"/>
              </a:solidFill>
              <a:latin typeface="Arial"/>
            </a:endParaRPr>
          </a:p>
        </p:txBody>
      </p:sp>
      <p:sp>
        <p:nvSpPr>
          <p:cNvPr id="86" name="PlaceHolder 2"/>
          <p:cNvSpPr>
            <a:spLocks noGrp="1"/>
          </p:cNvSpPr>
          <p:nvPr>
            <p:ph/>
          </p:nvPr>
        </p:nvSpPr>
        <p:spPr>
          <a:xfrm>
            <a:off x="4568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publish newspapers, magazines, and other materials without governmental restri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Spee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express one’s opinions public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s of situations or conflicts, the issues involved and decisions ma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tudies help us learn about America’s legal hist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FDB56393-4FBF-458D-9E1C-25E49C84D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Students and Free Speech</a:t>
            </a:r>
            <a:endParaRPr b="0" lang="en-US" sz="4000" spc="-1" strike="noStrike">
              <a:solidFill>
                <a:srgbClr val="000000"/>
              </a:solidFill>
              <a:latin typeface="Arial"/>
            </a:endParaRPr>
          </a:p>
        </p:txBody>
      </p:sp>
      <p:sp>
        <p:nvSpPr>
          <p:cNvPr id="88" name="PlaceHolder 2"/>
          <p:cNvSpPr>
            <a:spLocks noGrp="1"/>
          </p:cNvSpPr>
          <p:nvPr>
            <p:ph/>
          </p:nvPr>
        </p:nvSpPr>
        <p:spPr>
          <a:xfrm>
            <a:off x="457200" y="1219320"/>
            <a:ext cx="830592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nker Case, 1965</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students be allowed to wear armbands as a form of political protest? </a:t>
            </a:r>
            <a:r>
              <a:rPr b="0" lang="en-US" sz="2000" spc="-1" strike="noStrike">
                <a:solidFill>
                  <a:srgbClr val="000000"/>
                </a:solidFill>
                <a:latin typeface="Times New Roman"/>
              </a:rPr>
              <a:t>(In this case, the Vietnam War)</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Ruling:</a:t>
            </a:r>
            <a:endParaRPr b="0" lang="en-US" sz="3200" spc="-1" strike="noStrike">
              <a:solidFill>
                <a:srgbClr val="000000"/>
              </a:solidFill>
              <a:latin typeface="Arial"/>
            </a:endParaRPr>
          </a:p>
          <a:p>
            <a:pPr lvl="1" marL="743040" indent="-285840">
              <a:lnSpc>
                <a:spcPct val="90000"/>
              </a:lnSpc>
              <a:spcBef>
                <a:spcPts val="751"/>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cript MT Bold"/>
              </a:rPr>
              <a:t>“</a:t>
            </a:r>
            <a:r>
              <a:rPr b="0" lang="en-US" sz="3000" spc="-1" strike="noStrike">
                <a:solidFill>
                  <a:srgbClr val="000000"/>
                </a:solidFill>
                <a:latin typeface="Script MT Bold"/>
              </a:rPr>
              <a:t>It can hardly be argued that students or teachers shed their constitutional rights to freedom of speech or expression at the schoolhouse gate…Students in school as well as out of school are persons under our Constitut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0C69D119-4D60-4887-8395-3A845A2FE6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Skokie Case: Freedom for Nazis?</a:t>
            </a:r>
            <a:endParaRPr b="0" lang="en-US" sz="4000" spc="-1" strike="noStrike">
              <a:solidFill>
                <a:srgbClr val="000000"/>
              </a:solidFill>
              <a:latin typeface="Arial"/>
            </a:endParaRPr>
          </a:p>
        </p:txBody>
      </p:sp>
      <p:sp>
        <p:nvSpPr>
          <p:cNvPr id="90" name="PlaceHolder 2"/>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kokie Case, 197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American Nazi Party be allowed to march through a small town in Illino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in favor of the American Nazi Par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Our Constitution protects “the principle of free thought, not free thought for those who agree with us but freedom for the thought that we h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9189D1B8-7ADC-457A-9969-1B43A3208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Continuing Challeng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Righ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s of the American citizens are not simply guaranteed because they are written down in the Constitution, they have been protected by citizens who firmly believe in the American system of govern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ng the Constitution is a basic duties all citizens hav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4E1834A8-A1A1-4ED7-8738-F5B4539EE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1600200"/>
            <a:ext cx="3530520" cy="4495680"/>
          </a:xfrm>
          <a:prstGeom prst="rect">
            <a:avLst/>
          </a:prstGeom>
          <a:ln w="3240">
            <a:solidFill>
              <a:srgbClr val="000000"/>
            </a:solidFill>
            <a:miter/>
          </a:ln>
        </p:spPr>
      </p:pic>
      <p:sp>
        <p:nvSpPr>
          <p:cNvPr id="94"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ur Endur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titut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56B87ED5-E955-42DF-98A9-0ECC1EC0B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228600"/>
            <a:ext cx="5105520" cy="8380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Links</a:t>
            </a:r>
            <a:endParaRPr b="0" lang="en-US" sz="4000" spc="-1" strike="noStrike">
              <a:solidFill>
                <a:srgbClr val="000000"/>
              </a:solidFill>
              <a:latin typeface="Arial"/>
            </a:endParaRPr>
          </a:p>
        </p:txBody>
      </p:sp>
      <p:sp>
        <p:nvSpPr>
          <p:cNvPr id="96" name="">
            <a:hlinkClick r:id="rId1" action="ppaction://hlinksldjump"/>
          </p:cNvPr>
          <p:cNvSpPr/>
          <p:nvPr/>
        </p:nvSpPr>
        <p:spPr>
          <a:xfrm>
            <a:off x="2666880" y="236232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hanging the Law of the Land”</a:t>
            </a:r>
            <a:endParaRPr b="0" lang="en-US" sz="2400" spc="-1" strike="noStrike">
              <a:solidFill>
                <a:srgbClr val="000000"/>
              </a:solidFill>
              <a:latin typeface="Arial"/>
            </a:endParaRPr>
          </a:p>
        </p:txBody>
      </p:sp>
      <p:sp>
        <p:nvSpPr>
          <p:cNvPr id="97" name="">
            <a:hlinkClick r:id="rId2" action="ppaction://hlinksldjump"/>
          </p:cNvPr>
          <p:cNvSpPr/>
          <p:nvPr/>
        </p:nvSpPr>
        <p:spPr>
          <a:xfrm>
            <a:off x="2666880" y="441972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 Flexible Framework”</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E01F561C-07F1-4DF3-8BF3-DE0E8F510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28600" y="3581280"/>
          <a:ext cx="8763120" cy="2667240"/>
        </p:xfrm>
        <a:graphic>
          <a:graphicData uri="http://schemas.openxmlformats.org/drawingml/2006/table">
            <a:tbl>
              <a:tblPr/>
              <a:tblGrid>
                <a:gridCol w="5410080"/>
                <a:gridCol w="3353040"/>
              </a:tblGrid>
              <a:tr h="26672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itizenship and voting rights have undergone dramatic change in our country’s history. The amendment process enables our Constitution to adapt to a constantly changing socie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ffrag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9" name=""/>
          <p:cNvSpPr/>
          <p:nvPr/>
        </p:nvSpPr>
        <p:spPr>
          <a:xfrm>
            <a:off x="1600200" y="152280"/>
            <a:ext cx="624852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hanging the Law of the Land”</a:t>
            </a:r>
            <a:endParaRPr b="0" lang="en-US" sz="2800" spc="-1" strike="noStrike">
              <a:solidFill>
                <a:srgbClr val="000000"/>
              </a:solidFill>
              <a:latin typeface="Arial"/>
            </a:endParaRPr>
          </a:p>
        </p:txBody>
      </p:sp>
      <p:graphicFrame>
        <p:nvGraphicFramePr>
          <p:cNvPr id="100" name=""/>
          <p:cNvGraphicFramePr/>
          <p:nvPr/>
        </p:nvGraphicFramePr>
        <p:xfrm>
          <a:off x="228600" y="1295280"/>
          <a:ext cx="8763120" cy="2286000"/>
        </p:xfrm>
        <a:graphic>
          <a:graphicData uri="http://schemas.openxmlformats.org/drawingml/2006/table">
            <a:tbl>
              <a:tblPr/>
              <a:tblGrid>
                <a:gridCol w="4495680"/>
                <a:gridCol w="4267440"/>
              </a:tblGrid>
              <a:tr h="230364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lishing Slavery</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n Americans and the Right to Vote</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Women and the Right to Vote</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Youth and the Right to Vote</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The Voice of the People</a:t>
                      </a:r>
                      <a:endParaRPr b="0" lang="en-US" sz="24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026F2756-BD78-48EC-B10C-A95E3970BE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2151" t="2546" r="4303" b="2008"/>
          <a:stretch/>
        </p:blipFill>
        <p:spPr>
          <a:xfrm>
            <a:off x="1066680" y="128520"/>
            <a:ext cx="7010640" cy="6043680"/>
          </a:xfrm>
          <a:prstGeom prst="rect">
            <a:avLst/>
          </a:prstGeom>
          <a:ln w="0">
            <a:noFill/>
          </a:ln>
        </p:spPr>
      </p:pic>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03C30537-1C18-4BA2-A8EB-403454AF31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Abolishing Slavery</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Sta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ed collapse of their economy if slave labor was outlaw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s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ouri Compromise, 1820: divided new lands into “Free” and “Slave” territori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d Scott Court Dec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that slaves were property and not citize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61E76F18-4453-492C-B2C9-A08CE87DFB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Sylfaen"/>
              </a:rPr>
              <a:t>Abolishing Slavery (con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 fought between the Northern States (The Union) and the Southern States (The Confederate States of Americ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thern States wanted to be a separate country with their own weak federal govern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0,000 </a:t>
            </a:r>
            <a:r>
              <a:rPr b="0" lang="en-US" sz="2800" spc="-1" strike="noStrike">
                <a:solidFill>
                  <a:srgbClr val="000000"/>
                </a:solidFill>
                <a:latin typeface="Times New Roman"/>
              </a:rPr>
              <a:t>lives lost during this confli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teenth Amendment, 1865</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lished slave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A4B9F90B-9F64-4E33-84C0-C043CEBAF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The Goals of Our Govern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orm a more Perfect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sure Domestic Tranqu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vide for the Common Def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mote General Welf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cure the Blessings of Liberty to Ourselves and Our Poster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AD643B7-9B6C-418F-B9DC-9EA5267554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Sylfaen"/>
              </a:rPr>
              <a:t>African Americans and the Right to Vote</a:t>
            </a:r>
            <a:endParaRPr b="0" lang="en-US" sz="3600" spc="-1" strike="noStrike">
              <a:solidFill>
                <a:srgbClr val="000000"/>
              </a:solidFill>
              <a:latin typeface="Arial"/>
            </a:endParaRPr>
          </a:p>
        </p:txBody>
      </p:sp>
      <p:sp>
        <p:nvSpPr>
          <p:cNvPr id="107" name="PlaceHolder 2"/>
          <p:cNvSpPr>
            <a:spLocks noGrp="1"/>
          </p:cNvSpPr>
          <p:nvPr>
            <p:ph/>
          </p:nvPr>
        </p:nvSpPr>
        <p:spPr>
          <a:xfrm>
            <a:off x="380880" y="1218960"/>
            <a:ext cx="83059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eenth Amendment, 1868</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that all persons born or naturalized in the United States qualified for citizenshi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ncluded African Americans and former slaves.</a:t>
            </a:r>
            <a:endParaRPr b="0" lang="en-US" sz="28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te may “deprive any person of life, liberty, or property without due process of law” or “ deny to any person …the equal protection of the law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DDC02471-09A0-4EBF-BC9B-F1E2ED1106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Sylfaen"/>
              </a:rPr>
              <a:t>African Americans and the Right to Vote (cont.)</a:t>
            </a: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eenth Amendment, 187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s suffrage or the right to vote for all [male] citize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ate may deny the vote to any person on the basis of “race, color, or previous condition of servitu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enty Fourth Amendment, 196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awed poll taxes or fees for vo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tates used poll taxes to keep minorities from v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3AC642EE-E58B-4C1B-860F-7B8A6E5BF2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the Right to Vote</a:t>
            </a:r>
            <a:endParaRPr b="0" lang="en-US" sz="4000" spc="-1" strike="noStrike">
              <a:solidFill>
                <a:srgbClr val="000000"/>
              </a:solidFill>
              <a:latin typeface="Arial"/>
            </a:endParaRPr>
          </a:p>
        </p:txBody>
      </p:sp>
      <p:sp>
        <p:nvSpPr>
          <p:cNvPr id="111" name="PlaceHolder 2"/>
          <p:cNvSpPr>
            <a:spLocks noGrp="1"/>
          </p:cNvSpPr>
          <p:nvPr>
            <p:ph/>
          </p:nvPr>
        </p:nvSpPr>
        <p:spPr>
          <a:xfrm>
            <a:off x="380880" y="1219320"/>
            <a:ext cx="830592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Ou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most part, women had been excluded from full citizenship and subsequent righ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Suffrage Movement, 1848-19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neca Falls convention</a:t>
            </a:r>
            <a:r>
              <a:rPr b="0" lang="en-US" sz="2800" spc="-1" strike="noStrike">
                <a:solidFill>
                  <a:srgbClr val="000000"/>
                </a:solidFill>
                <a:latin typeface="Times New Roman"/>
              </a:rPr>
              <a:t>: “We hold these truths to be self-evident: that all men </a:t>
            </a:r>
            <a:r>
              <a:rPr b="1" lang="en-US" sz="2800" spc="-1" strike="noStrike" u="sng">
                <a:solidFill>
                  <a:srgbClr val="000000"/>
                </a:solidFill>
                <a:uFillTx/>
                <a:latin typeface="Times New Roman"/>
              </a:rPr>
              <a:t>and women</a:t>
            </a:r>
            <a:r>
              <a:rPr b="0" lang="en-US" sz="2800" spc="-1" strike="noStrike">
                <a:solidFill>
                  <a:srgbClr val="000000"/>
                </a:solidFill>
                <a:latin typeface="Times New Roman"/>
              </a:rPr>
              <a:t> are created equ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neteenth Amendment, 19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d suffrage for wom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4FFFD78F-1CDA-4F02-96B0-37D8888181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Youth and the Right to Vote</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enty Sixth Amendment, 1971</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ed the voting age to 18</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ting age had previously been 21</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ousands of citizens ages 18-21 had fought in foreign wars to preserve the American way of life, and it seemed unfair that they could not vot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0273413-C011-4111-82CD-F5071AEF48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Voice of the Peopl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amers” of our Constitution were wise to allow a way to amend and ratify our govern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is very flexible, and allows itself to be changed if a strong majority of representatives agrees on the proposed chan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twenty seven total Amendments to the Constit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1CA1EF7D-C08D-4E0E-81F6-E7C7BCBC71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228600" y="3733920"/>
          <a:ext cx="8763120" cy="2819160"/>
        </p:xfrm>
        <a:graphic>
          <a:graphicData uri="http://schemas.openxmlformats.org/drawingml/2006/table">
            <a:tbl>
              <a:tblPr/>
              <a:tblGrid>
                <a:gridCol w="5562720"/>
                <a:gridCol w="3200400"/>
              </a:tblGrid>
              <a:tr h="281916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mendments to the Constitution have enlarged the rights of African Americans and women with respect to equality. The Supreme Court applies the principles of the Constitution to the cases of issued that it hea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Prot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reg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Ac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7" name=""/>
          <p:cNvSpPr/>
          <p:nvPr/>
        </p:nvSpPr>
        <p:spPr>
          <a:xfrm>
            <a:off x="2133720" y="152280"/>
            <a:ext cx="502920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 Flexible Framework”</a:t>
            </a:r>
            <a:endParaRPr b="0" lang="en-US" sz="2800" spc="-1" strike="noStrike">
              <a:solidFill>
                <a:srgbClr val="000000"/>
              </a:solidFill>
              <a:latin typeface="Arial"/>
            </a:endParaRPr>
          </a:p>
        </p:txBody>
      </p:sp>
      <p:graphicFrame>
        <p:nvGraphicFramePr>
          <p:cNvPr id="118" name=""/>
          <p:cNvGraphicFramePr/>
          <p:nvPr/>
        </p:nvGraphicFramePr>
        <p:xfrm>
          <a:off x="228600" y="1371600"/>
          <a:ext cx="8763120" cy="2362320"/>
        </p:xfrm>
        <a:graphic>
          <a:graphicData uri="http://schemas.openxmlformats.org/drawingml/2006/table">
            <a:tbl>
              <a:tblPr/>
              <a:tblGrid>
                <a:gridCol w="4457880"/>
                <a:gridCol w="4305240"/>
              </a:tblGrid>
              <a:tr h="236232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2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le of the Supreme Court</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ity and Segregation</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Equality and Affirmative Action</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 and Equality</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work for the Future</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work for the Future</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60E1D2B6-24CF-4ED4-AB9F-8D4B35A0C7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Role of the Supreme Court</a:t>
            </a:r>
            <a:endParaRPr b="0" lang="en-US" sz="4000" spc="-1" strike="noStrike">
              <a:solidFill>
                <a:srgbClr val="000000"/>
              </a:solidFill>
              <a:latin typeface="Arial"/>
            </a:endParaRPr>
          </a:p>
        </p:txBody>
      </p:sp>
      <p:sp>
        <p:nvSpPr>
          <p:cNvPr id="120"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turning a Dec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rt decisions set important precedents, but can be changed by amend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a Princi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ices on the Supreme Court have the job of interpreting the Constitution and its amendments as they apply to specific ca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Prote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that people must be treated fairly, but it does not mean that everyone must be treated exactly the same wa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300F1609-BA58-4F81-A771-F1A9548EB5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Equality and Segregation</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ssy v. Ferguson, 1896</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ates passed laws requiring segregation, or separation of blacks and whites in public places such as hotels, schools, and trai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in 1896 that segregation did not violate the Fourteenth Amendment, so long as blacks and whites had access to “separate but equal” fac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F840D1D4-EFE6-4139-9E6C-1F5A80E19B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Sylfaen"/>
              </a:rPr>
              <a:t>Equality and Segregation (con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to Segreg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CP and Thurgood Marshal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v. Board of Education, 1954</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that the “separate but equal” standard in Plessy v. Ferguson had no place in public edu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ssy v. Ferguson was overturned and segregation laws were declared unconstitutional; segregation was now illeg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8E793286-490D-459D-B2AD-4E1E15AF1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Equality and Affirmative Action</a:t>
            </a:r>
            <a:endParaRPr b="0" lang="en-US" sz="4000" spc="-1" strike="noStrike">
              <a:solidFill>
                <a:srgbClr val="000000"/>
              </a:solidFill>
              <a:latin typeface="Arial"/>
            </a:endParaRPr>
          </a:p>
        </p:txBody>
      </p:sp>
      <p:sp>
        <p:nvSpPr>
          <p:cNvPr id="126" name="PlaceHolder 2"/>
          <p:cNvSpPr>
            <a:spLocks noGrp="1"/>
          </p:cNvSpPr>
          <p:nvPr>
            <p:ph/>
          </p:nvPr>
        </p:nvSpPr>
        <p:spPr>
          <a:xfrm>
            <a:off x="304920" y="1219320"/>
            <a:ext cx="853416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rmative 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 to counteract the effects of past racial discrimination and discrimination against wom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pose is to help undo past wro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California v. Bakke, 1978</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an Bakke was rejected from medical school despite having better credentials than minority applican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sued the Medical School at UC Davis for reverse discrimination; bu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ruled that race could be a factor in deciding admiss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EF044BBB-6091-4F43-95E3-F06C322975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The Artic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islative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ecutive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dicial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ing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acy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23957622-5494-4DBA-B52C-1D56585A92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Equality</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in the Workpla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a company hire only ma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they have different rules for women and 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they pay men and women different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se issues are being debated in the American judicial system toda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illips Case:</a:t>
            </a:r>
            <a:r>
              <a:rPr b="0" lang="en-US" sz="2800" spc="-1" strike="noStrike">
                <a:solidFill>
                  <a:srgbClr val="000000"/>
                </a:solidFill>
                <a:latin typeface="Times New Roman"/>
              </a:rPr>
              <a:t> Companies may not have “one hiring policy for women and another for m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ED30578-8D59-4D16-A8C8-34FA3599FD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Equality</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and the Constitu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merican citizens are entitled to equal protec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questions about equal protection are constantly arising, and the judicial system must review such cases to determine whether or not the Constitution is being followed.</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A001A43C-76B6-482E-AB8B-A5489C54D63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Limited Governmen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vision of power between the states and the federal or national governmen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s shared by the federal and state govern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s that the Constitution neither gives to Congress nor denies to the st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03F1B3E8-7E0A-470A-B7AC-9310C03AB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Limited Government (con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 Judicial, and Executive branch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and Bal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that gives each branch of government ways to limit the powers of the other tw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a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ccuse or wrongdo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n example of a “check” the House of Representatives has on any high officia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ED4AD332-E665-4D36-901A-F0A274146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41440" y="228600"/>
            <a:ext cx="4287960" cy="6019920"/>
          </a:xfrm>
          <a:prstGeom prst="rect">
            <a:avLst/>
          </a:prstGeom>
          <a:ln w="0">
            <a:noFill/>
          </a:ln>
        </p:spPr>
      </p:pic>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FFD72A41-816B-4E88-854C-9A6120CFF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1600200"/>
            <a:ext cx="3530520" cy="4495680"/>
          </a:xfrm>
          <a:prstGeom prst="rect">
            <a:avLst/>
          </a:prstGeom>
          <a:ln w="3240">
            <a:solidFill>
              <a:srgbClr val="000000"/>
            </a:solidFill>
            <a:miter/>
          </a:ln>
        </p:spPr>
      </p:pic>
      <p:sp>
        <p:nvSpPr>
          <p:cNvPr id="57"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A4FBAE18-1558-4390-A50B-76EB4793F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438280" y="228600"/>
            <a:ext cx="5105520" cy="8380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Links</a:t>
            </a:r>
            <a:endParaRPr b="0" lang="en-US" sz="4000" spc="-1" strike="noStrike">
              <a:solidFill>
                <a:srgbClr val="000000"/>
              </a:solidFill>
              <a:latin typeface="Arial"/>
            </a:endParaRPr>
          </a:p>
        </p:txBody>
      </p:sp>
      <p:sp>
        <p:nvSpPr>
          <p:cNvPr id="59" name="">
            <a:hlinkClick r:id="rId1" action="ppaction://hlinksldjump"/>
          </p:cNvPr>
          <p:cNvSpPr/>
          <p:nvPr/>
        </p:nvSpPr>
        <p:spPr>
          <a:xfrm>
            <a:off x="2514600" y="1752480"/>
            <a:ext cx="4800600" cy="83844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dding the Bill of Rights”</a:t>
            </a:r>
            <a:endParaRPr b="0" lang="en-US" sz="2400" spc="-1" strike="noStrike">
              <a:solidFill>
                <a:srgbClr val="000000"/>
              </a:solidFill>
              <a:latin typeface="Arial"/>
            </a:endParaRPr>
          </a:p>
        </p:txBody>
      </p:sp>
      <p:sp>
        <p:nvSpPr>
          <p:cNvPr id="60" name="">
            <a:hlinkClick r:id="rId2" action="ppaction://hlinksldjump"/>
          </p:cNvPr>
          <p:cNvSpPr/>
          <p:nvPr/>
        </p:nvSpPr>
        <p:spPr>
          <a:xfrm>
            <a:off x="2514600" y="320040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rotections in the Bill of Rights”</a:t>
            </a:r>
            <a:endParaRPr b="0" lang="en-US" sz="2400" spc="-1" strike="noStrike">
              <a:solidFill>
                <a:srgbClr val="000000"/>
              </a:solidFill>
              <a:latin typeface="Arial"/>
            </a:endParaRPr>
          </a:p>
        </p:txBody>
      </p:sp>
      <p:sp>
        <p:nvSpPr>
          <p:cNvPr id="61" name="">
            <a:hlinkClick r:id="rId3" action="ppaction://hlinksldjump"/>
          </p:cNvPr>
          <p:cNvSpPr/>
          <p:nvPr/>
        </p:nvSpPr>
        <p:spPr>
          <a:xfrm>
            <a:off x="2514600" y="4724280"/>
            <a:ext cx="4800600" cy="83844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nterpreting the Bill of Rights”</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84A038CB-0253-4563-8A92-96E8989B5E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5:37:50Z</dcterms:created>
  <dc:creator>Timothy B. Monahan</dc:creator>
  <dc:description/>
  <dc:language>en-US</dc:language>
  <cp:lastModifiedBy>TJNankivell</cp:lastModifiedBy>
  <dcterms:modified xsi:type="dcterms:W3CDTF">2008-10-08T18:07:45Z</dcterms:modified>
  <cp:revision>32</cp:revision>
  <dc:subject/>
  <dc:title>Slide 1</dc:title>
</cp:coreProperties>
</file>